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C810-EE98-45D5-8FFF-6003F62E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A31-FADA-4803-8082-954E476D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AFA-F857-4756-9FCA-86236CF3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1EE-1433-4131-B7E0-4580AB18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BC04-BBDE-4B92-AD21-E4C5998A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B46-2B59-4238-8BEF-E0DFA921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DA7-04E0-4ABD-8F4F-657CA0E1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271D-B3E1-4178-8D3F-F3526B84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725-C6DA-4FAB-9B95-5973C300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7A5-77C7-414F-A970-27DAF43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8F1-5E7B-46A4-9284-12C51565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A79-2E17-4487-9DB1-8EDCCB19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3BDA-ACAB-41EC-826A-8A449C624E8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342EA2F6-BD99-4184-A9AB-37C0777F0FD6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14200" y="2262240"/>
            <a:ext cx="9001080" cy="22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1.11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ς τα ἰδια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λθ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και οἱ ἰδιοι αὐτον οὐ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αρελαβ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am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s own, and his ow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cei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uke 4.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ἠγαγ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ε αὐτον εἰς Ἰερουσαλημ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και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π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αὐτῳ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im to Jerusalem … an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a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him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685800" y="2624040"/>
          <a:ext cx="7772400" cy="2590920"/>
        </p:xfrm>
        <a:graphic>
          <a:graphicData uri="http://schemas.openxmlformats.org/drawingml/2006/table">
            <a:tbl>
              <a:tblPr/>
              <a:tblGrid>
                <a:gridCol w="1271520"/>
                <a:gridCol w="3884760"/>
                <a:gridCol w="2616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ε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sa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ε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Imperfec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were flee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Plural Aorist Indicati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fl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ινετ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Imperfec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was happen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ετο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2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Aorist Indicativ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happen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115"/>
          <p:cNvSpPr/>
          <p:nvPr/>
        </p:nvSpPr>
        <p:spPr>
          <a:xfrm>
            <a:off x="647640" y="1998720"/>
            <a:ext cx="331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8"/>
          <p:cNvSpPr/>
          <p:nvPr/>
        </p:nvSpPr>
        <p:spPr>
          <a:xfrm>
            <a:off x="1714680" y="1319040"/>
            <a:ext cx="5715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1.4 Indicativ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46760" y="6299280"/>
            <a:ext cx="215604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23AA6D34-9283-41BD-BD23-A3F8EB1D2BB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-68400" y="271440"/>
            <a:ext cx="9283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786720" y="6299280"/>
            <a:ext cx="2084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9CC1974B-15C7-4778-8265-979AFF1976A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486080" y="1219320"/>
            <a:ext cx="6172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5 Other moods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3520" y="184140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gments &amp;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44440" y="3063960"/>
          <a:ext cx="8643960" cy="2773440"/>
        </p:xfrm>
        <a:graphic>
          <a:graphicData uri="http://schemas.openxmlformats.org/drawingml/2006/table">
            <a:tbl>
              <a:tblPr/>
              <a:tblGrid>
                <a:gridCol w="1513080"/>
                <a:gridCol w="4635360"/>
                <a:gridCol w="2495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Presen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β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Sing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tak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θει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 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come (undefined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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ἰδο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. Nom. Pl. Aorist 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ing s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ingular Present Imper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! (process/ongoing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A970595A-3010-4715-BCA6-6E913058AED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2200" y="2571840"/>
          <a:ext cx="7750080" cy="1431720"/>
        </p:xfrm>
        <a:graphic>
          <a:graphicData uri="http://schemas.openxmlformats.org/drawingml/2006/table">
            <a:tbl>
              <a:tblPr/>
              <a:tblGrid>
                <a:gridCol w="1497240"/>
                <a:gridCol w="2523960"/>
                <a:gridCol w="1582560"/>
                <a:gridCol w="2146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ω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ωνα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υ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ν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38"/>
          <p:cNvSpPr/>
          <p:nvPr/>
        </p:nvSpPr>
        <p:spPr>
          <a:xfrm>
            <a:off x="609480" y="1857240"/>
            <a:ext cx="4176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)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γινωσκ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ταβαινω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12840" y="4235400"/>
          <a:ext cx="9144000" cy="1798560"/>
        </p:xfrm>
        <a:graphic>
          <a:graphicData uri="http://schemas.openxmlformats.org/drawingml/2006/table">
            <a:tbl>
              <a:tblPr/>
              <a:tblGrid>
                <a:gridCol w="1658880"/>
                <a:gridCol w="3325680"/>
                <a:gridCol w="1765440"/>
                <a:gridCol w="23940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ς,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με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εβησα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θι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ητε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βηναι</a:t>
                      </a:r>
                      <a:r>
                        <a:rPr b="0" lang="en-GB" sz="2200" spc="-1" strike="noStrike">
                          <a:solidFill>
                            <a:srgbClr val="ffcc66"/>
                          </a:solidFill>
                          <a:latin typeface="Greek"/>
                          <a:ea typeface="Times New Roman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,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ταβαντε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152"/>
          <p:cNvSpPr/>
          <p:nvPr/>
        </p:nvSpPr>
        <p:spPr>
          <a:xfrm>
            <a:off x="1905120" y="121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1.1.6 Unusual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642960" y="1884240"/>
            <a:ext cx="8072280" cy="30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ii)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with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δ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νεγκον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ometimes used with the 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ending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εἰπ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ο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Acts 16.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τε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ther than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ἠλθ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τε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Matthew 25.3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A4967252-0F2A-4428-8F22-6692E4C70557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95400" y="271440"/>
            <a:ext cx="8977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9C3457A2-86FD-4747-BDCB-6009782D2B1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28560" y="2214720"/>
            <a:ext cx="78868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Cor. 1.17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 γαρ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εστειλε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με Χριστος βαπτιζει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cause Chris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d not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e to baptis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uke 11.49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: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ἀποστελῶ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εἰς αὐτους προφητας και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ποστολου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 will se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o them prophets and apostles 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495360" y="1143000"/>
            <a:ext cx="764856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Fu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endings from the Presen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εω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re used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(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με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ειτ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-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ori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ifferent stem i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σ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s added (which you would expect for the Aori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gment and endings of the (1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Aorist are used as normal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33520" y="5619600"/>
            <a:ext cx="8076960" cy="581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liquid verbs there is no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n the Future or Ao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489DE16-D7EA-4B58-9FE2-74F52156924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276200" y="2643120"/>
          <a:ext cx="6510600" cy="1965240"/>
        </p:xfrm>
        <a:graphic>
          <a:graphicData uri="http://schemas.openxmlformats.org/drawingml/2006/table">
            <a:tbl>
              <a:tblPr/>
              <a:tblGrid>
                <a:gridCol w="1209960"/>
                <a:gridCol w="1766880"/>
                <a:gridCol w="1766880"/>
                <a:gridCol w="17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π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π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a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ι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ει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ιν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κτεν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κτειν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79"/>
          <p:cNvSpPr/>
          <p:nvPr/>
        </p:nvSpPr>
        <p:spPr>
          <a:xfrm>
            <a:off x="1790640" y="1271520"/>
            <a:ext cx="5562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  <a:ea typeface="Times New Roman"/>
              </a:rPr>
              <a:t>11.2.1 Common Liquid Verbs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0"/>
          <p:cNvSpPr/>
          <p:nvPr/>
        </p:nvSpPr>
        <p:spPr>
          <a:xfrm>
            <a:off x="871560" y="1928880"/>
            <a:ext cx="74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use the same stem in the Aorist as the Pres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4"/>
          <p:cNvSpPr/>
          <p:nvPr/>
        </p:nvSpPr>
        <p:spPr>
          <a:xfrm>
            <a:off x="871560" y="48243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il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52680" y="5484960"/>
          <a:ext cx="6091200" cy="502920"/>
        </p:xfrm>
        <a:graphic>
          <a:graphicData uri="http://schemas.openxmlformats.org/drawingml/2006/table">
            <a:tbl>
              <a:tblPr/>
              <a:tblGrid>
                <a:gridCol w="1147680"/>
                <a:gridCol w="1647720"/>
                <a:gridCol w="1648080"/>
                <a:gridCol w="16477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ift 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ἰρ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ρ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ρ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FF722D1D-1BBF-454B-8B90-3328D552832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8C28AB92-C6F7-4DB7-BAC4-0F96C7118FD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04920" y="1214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ove from a final double consonant in the Present, to a single consonant in the Future, and to a single consonant with a lengthened vowel in the Aoris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14240" y="2637000"/>
          <a:ext cx="7715520" cy="100620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στ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στ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nnou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γειλα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25"/>
          <p:cNvSpPr/>
          <p:nvPr/>
        </p:nvSpPr>
        <p:spPr>
          <a:xfrm>
            <a:off x="304920" y="390204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are similar, but show no change in the Future since in the Present their final vowel is already short, and their final consonant is not doubl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00120" y="5214960"/>
          <a:ext cx="6096240" cy="91440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re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ε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ε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jud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ρινε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κριν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B50DC009-E6B0-4097-A4E4-FD7DBA0196ED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71440" y="1214280"/>
            <a:ext cx="90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follow the same general principles, but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43120" y="1922400"/>
          <a:ext cx="7467480" cy="1006560"/>
        </p:xfrm>
        <a:graphic>
          <a:graphicData uri="http://schemas.openxmlformats.org/drawingml/2006/table">
            <a:tbl>
              <a:tblPr/>
              <a:tblGrid>
                <a:gridCol w="1312560"/>
                <a:gridCol w="2049480"/>
                <a:gridCol w="2265480"/>
                <a:gridCol w="18399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d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ανε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5"/>
          <p:cNvSpPr/>
          <p:nvPr/>
        </p:nvSpPr>
        <p:spPr>
          <a:xfrm>
            <a:off x="284040" y="3255840"/>
            <a:ext cx="875844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John 15.10: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ιτε ἐν τῃ ἀγαπῃ μο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You will remain in my love.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thew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1.1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οτε Ἰησους ἀπεστειλεν δυο μαθητα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Then Jesus sent two discipl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01E4A18D-6AD9-4E1A-9FAB-41F9FAB2A506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95400" y="57240"/>
            <a:ext cx="89773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2 THE FUTURE AND AORIST OF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IQUID VERB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04840" y="1538280"/>
            <a:ext cx="6934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2.2 Accents in the Fut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752480" y="2743200"/>
            <a:ext cx="563904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 liquid verb has a circumflex if  - and only if - it is Futu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24000" y="4286160"/>
            <a:ext cx="853416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ένεις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Present (you remain),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μενεῖς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s Future (you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ll remain)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057400" y="1676520"/>
            <a:ext cx="5029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 The Principl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214280" y="3048120"/>
            <a:ext cx="6705720" cy="20908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has the same meaning as the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A verb will have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eithe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1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but </a:t>
            </a:r>
            <a:r>
              <a:rPr b="0" i="1" lang="en-GB" sz="29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bot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8AE997E9-A456-4BDD-933F-0AE287F5248D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0EEB215F-62EE-49A2-9AFE-C0882C99312B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714680" y="1241280"/>
            <a:ext cx="5790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2 Compare in English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9040" y="1981080"/>
            <a:ext cx="83059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st English words form their past tense by adding –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wal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walked; 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rowed; attack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ttack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words form their past tense by changing their stem instead of adding -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si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ung; see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; throw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thr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nly very rare words can do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.g. hang </a:t>
            </a:r>
            <a:r>
              <a:rPr b="0" lang="en-GB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ung </a:t>
            </a: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ang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95360" y="1200240"/>
          <a:ext cx="8153280" cy="500544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re is a standard form of the past ten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verbs have a 1st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rtain words follow a different patter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verbs have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few words can follow both pattern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erb has a 1st and a 2nd Aor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normal pattern forms the past tense by adding –ed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st Aorists are formed by adding 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σ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the 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other group forms the past tense by changing the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Aorists are formed by changing their stem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E54C8A21-ACC6-4C31-8EA1-B1EFF651850F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838080" y="1447920"/>
            <a:ext cx="74678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1.1.3 The formation of the 2</a:t>
            </a:r>
            <a:r>
              <a:rPr b="0" lang="en-GB" sz="29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05120" y="2438280"/>
            <a:ext cx="5333760" cy="5205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= Changed 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14400" y="3733920"/>
            <a:ext cx="739152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impossible to spot a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less you recognise the 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orist 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arn Them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A4DC39FD-CB3F-4CE3-9653-6F5984485A64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405080" y="1765440"/>
          <a:ext cx="6095880" cy="4663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s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d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or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μαρτ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μαρτ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οθνῃ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πεθαν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hr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λ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πισκ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ὑρ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αλειπ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κατελιπ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αμβ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λαβ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ανθα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μ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suf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ασχ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αθ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d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ν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ι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 fl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υγ-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υγ-ο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00"/>
          <p:cNvSpPr/>
          <p:nvPr/>
        </p:nvSpPr>
        <p:spPr>
          <a:xfrm>
            <a:off x="214200" y="1214280"/>
            <a:ext cx="885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2</a:t>
            </a:r>
            <a:r>
              <a:rPr b="0" lang="en-GB" sz="2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orist stems are shortened versions of the Present st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D29B1DB9-9BBA-4170-A3D4-3A58C787B3F6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00200" y="1828800"/>
          <a:ext cx="5943600" cy="1463760"/>
        </p:xfrm>
        <a:graphic>
          <a:graphicData uri="http://schemas.openxmlformats.org/drawingml/2006/table">
            <a:tbl>
              <a:tblPr/>
              <a:tblGrid>
                <a:gridCol w="1981080"/>
                <a:gridCol w="1981440"/>
                <a:gridCol w="1981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g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ιν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-η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kn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ωσκ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ν-ω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 Box 41"/>
          <p:cNvSpPr/>
          <p:nvPr/>
        </p:nvSpPr>
        <p:spPr>
          <a:xfrm>
            <a:off x="428760" y="1219320"/>
            <a:ext cx="80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hese include two whose endings are a little differ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3880" y="4324320"/>
          <a:ext cx="6096240" cy="1828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e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-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γαγ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av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χ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χ-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fa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πτ-ω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πεσ-ο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18"/>
          <p:cNvSpPr/>
          <p:nvPr/>
        </p:nvSpPr>
        <p:spPr>
          <a:xfrm>
            <a:off x="452520" y="3683160"/>
            <a:ext cx="79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make other minor adjustments to the stem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31A63BCB-175A-42DC-BFE6-5528598E9790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670040"/>
          <a:ext cx="6096240" cy="9604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beco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γιν-ομαι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γεν-ομη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4"/>
          <p:cNvSpPr/>
          <p:nvPr/>
        </p:nvSpPr>
        <p:spPr>
          <a:xfrm>
            <a:off x="571680" y="120168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ne is deponent (and therefore has deponent endings)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3402000"/>
          <a:ext cx="6096240" cy="29718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nd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ori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o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ρχ-ομαι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λθ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λεγ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π-ον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σθι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</a:t>
                      </a: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φαγ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s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ρα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ἰδ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car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ερ-ω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ἠνεγκ-ον</a:t>
                      </a:r>
                      <a:r>
                        <a:rPr b="0" lang="en-GB" sz="27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Text Box 61"/>
          <p:cNvSpPr/>
          <p:nvPr/>
        </p:nvSpPr>
        <p:spPr>
          <a:xfrm>
            <a:off x="571680" y="2643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ve have 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s that bear no resemblance to their forms in the Present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</a:t>
            </a:r>
            <a:r>
              <a:rPr b="0" lang="en-GB" sz="1800" spc="-1" strike="noStrike">
                <a:solidFill>
                  <a:srgbClr val="e0b300"/>
                </a:solidFill>
                <a:latin typeface="Calibri"/>
              </a:rPr>
              <a:t> </a:t>
            </a:r>
            <a:fld id="{729D34B4-61EA-4249-BA44-E9202CB6FA30}" type="slidenum">
              <a:rPr b="0" lang="en-GB" sz="1800" spc="-1" strike="noStrike">
                <a:solidFill>
                  <a:srgbClr val="e0b300"/>
                </a:solidFill>
                <a:latin typeface="Calibri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1:Grammar </a:t>
            </a:r>
            <a:fld id="{A99BFA8C-4961-415B-A475-2C960BF76DBC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1.1 SECOND AORIS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638360" y="1413000"/>
            <a:ext cx="5867280" cy="10159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orist Indicative – Imperfect E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orist Other Moods – Present Ending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5280" y="2840040"/>
          <a:ext cx="8893440" cy="2743200"/>
        </p:xfrm>
        <a:graphic>
          <a:graphicData uri="http://schemas.openxmlformats.org/drawingml/2006/table">
            <a:tbl>
              <a:tblPr/>
              <a:tblGrid>
                <a:gridCol w="1609920"/>
                <a:gridCol w="1412640"/>
                <a:gridCol w="1498680"/>
                <a:gridCol w="1690920"/>
                <a:gridCol w="1323720"/>
                <a:gridCol w="1357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sin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Pl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, she,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in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ει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με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(pl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ετ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asc. nom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βαλοντ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ἐβαλ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11:29:26Z</dcterms:created>
  <dc:creator>Sarah</dc:creator>
  <dc:description/>
  <dc:language>en-US</dc:language>
  <cp:lastModifiedBy>Sarah</cp:lastModifiedBy>
  <dcterms:modified xsi:type="dcterms:W3CDTF">2009-03-06T11:05:56Z</dcterms:modified>
  <cp:revision>48</cp:revision>
  <dc:subject/>
  <dc:title>Slide 1</dc:title>
</cp:coreProperties>
</file>